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07C-4952-4D7D-8A3A-B1ED78C4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023C-B7B0-4FA9-A452-70D85369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08F-C7DC-492C-9764-0F0172A8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9448-45C4-4451-861E-EEB144D6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2E9-ADCF-4B92-B176-AF19BE70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742-CFE9-434C-A97D-966086A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B51-BA5B-4223-BAE7-E0756E42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9FA-27B3-4802-B382-9E846891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278-EE3C-470E-86AF-C042CE6D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8DF-A229-45EE-917A-4308337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699-BEB3-4FDD-9C27-B026F71D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35E8-9DA5-4B8B-96CB-F5A81B89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AF2F-10BB-48C6-835D-276BB186504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hmov zak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visi li električni otpor o nap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Hoće li se otpor vodiča promijeniti ako promijenite napon na njegovim krajev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SnapShot(319).jpg"/>
          <p:cNvPicPr/>
          <p:nvPr/>
        </p:nvPicPr>
        <p:blipFill>
          <a:blip r:embed="rId4"/>
          <a:srcRect l="15748" t="13998" r="15748" b="0"/>
          <a:stretch/>
        </p:blipFill>
        <p:spPr>
          <a:xfrm>
            <a:off x="4356000" y="1916280"/>
            <a:ext cx="4384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411280" y="1900080"/>
            <a:ext cx="43214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ve su promjene napona i str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akvoj su ovisnosti struja i napon na ispitivanom otpornik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puta povećate napon, toliko se puta poveća struja p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ja proporcionalna napo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moću podataka dobivenih mjerenjima, nacrtajte grafički prikaz ovisnosti struje o napon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3419640" y="1557360"/>
            <a:ext cx="53337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ičnik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U/I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pona na trošilu i struje kroz trošilo otpora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R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 stalan.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znači da je koeficijent proporcionalnosti jednak recipročnoj vrijednosti otpora 1/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se ta zakonitost može iskazati izraz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2268360" y="4292640"/>
            <a:ext cx="1571760" cy="857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4"/>
          <a:stretch/>
        </p:blipFill>
        <p:spPr>
          <a:xfrm>
            <a:off x="4716360" y="4292640"/>
            <a:ext cx="1181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hmov zako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ja koja prolazi vodičem razmjerna je naponu na njegovim krajevima, a obrnuto razmjerna njegovu električnom otp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odiči za koje vrijedi Ohmov zakon nazivaju se 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omski vodič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to su uglavnom meta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napo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dnadžba električnog otp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6"/>
          <a:stretch/>
        </p:blipFill>
        <p:spPr>
          <a:xfrm>
            <a:off x="3708360" y="3168720"/>
            <a:ext cx="134316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7"/>
          <a:stretch/>
        </p:blipFill>
        <p:spPr>
          <a:xfrm>
            <a:off x="3780000" y="4443480"/>
            <a:ext cx="11332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19:26:59Z</dcterms:created>
  <dc:creator>Zdenko</dc:creator>
  <dc:description/>
  <dc:language>en-US</dc:language>
  <cp:lastModifiedBy>Zdenko</cp:lastModifiedBy>
  <dcterms:modified xsi:type="dcterms:W3CDTF">2014-07-18T09:24:18Z</dcterms:modified>
  <cp:revision>4</cp:revision>
  <dc:subject/>
  <dc:title>Ohmov zakon</dc:title>
</cp:coreProperties>
</file>